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888-22B6-4F48-81E9-BE468BD3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E2B-9712-449F-9CBD-DEA3EDC7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9F8-121A-4104-BA34-B8D94A87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1EE-061D-4F0E-98F9-0BB52BF4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2C5-4768-4369-AAC3-A36F3E3A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ADB-216D-46C9-9092-13C71052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946-6F3C-49AF-A69A-AFF97B96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C49-B25A-4BF1-BE0B-83EED9AA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D60-B4C2-429D-BE6E-150506DC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370-42E0-4352-9F9D-765EE502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669-1BC5-4D41-B4A2-08E2DB47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11D-4CD6-408C-A269-D6E089F0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B70A-EDC3-4E72-BA96-E9CB556276E0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56760" y="56052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ac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Verdana"/>
              </a:rPr>
              <a:t>Copyright 2005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05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Business Communic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970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of message may be an important factor in determining the medium, content, approach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new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d new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of the above may require a different approach and a different mediu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717560"/>
            <a:ext cx="65772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What is the communication designed to achieve?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needs to be considered carefully to judge the best method of delivery and to judge the effectiveness of the feedback as to whether the message has been successfu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le of IC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638360"/>
            <a:ext cx="79261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Role of IC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CT has brought many advantages but also has its limita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enables speedy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can be cheap and save on costs (e.g. videoconferenc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can be expensive in hardware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can seem impers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can be ab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rrier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09640" y="1771560"/>
            <a:ext cx="78771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Barrier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thing that prevents successful communication from occur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x and multi-laye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technical or generated by the medium used, etc. b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 problem is human behaviour and psychology, e.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motional Interferenc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ignificant factor influencing successful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otions - anger, frustration, happiness, enthusiasm, need to be defensive, desire to be assertive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dy language – says far more about communication than we ever realis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Image of The Handshake, image jd3605-001"/>
          <p:cNvPicPr/>
          <p:nvPr/>
        </p:nvPicPr>
        <p:blipFill>
          <a:blip r:embed="rId1"/>
          <a:stretch/>
        </p:blipFill>
        <p:spPr>
          <a:xfrm>
            <a:off x="457200" y="1905120"/>
            <a:ext cx="38098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4572000"/>
            <a:ext cx="40388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n enduring image – the message this photograph was meant to send out was vital to Middle East peace – what does the body language of those in the image suggest is also being communicated to the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itle: The handshake. Copyright Getty Images, available from Education Image Gallery (http://eig.edina.ac.u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Business Communic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52560" y="1773360"/>
            <a:ext cx="531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dium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812960"/>
            <a:ext cx="745308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The Medium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he communication is to be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to select an appropriate medium for the mess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consider the needs of the sender, the nature of the receiver and the aims of the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medium can be a barrier to effective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lu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2065320"/>
            <a:ext cx="90756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Valu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st majority of problems in business are caused by ineffective communication in one form or an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sinesses essentially human focused organis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lue of good communications therefore inestim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Whom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82680" y="1763640"/>
            <a:ext cx="62611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To Whom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the communication is aimed at is an important fact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ature of the medium and the content may depend on who it is aimed 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cessity of being sensitive to the recei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communication be formal or inform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To Whom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-mail communic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 it need to adhere to normal rules of spelling, punctuation and gramm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s it appropriate to use text spea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is OK 4U or is txt 1 stp 2f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e there different rules for different situ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w do you know what the receiver expec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damage can be caused by inappropriate e-mail messag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1:19:15Z</dcterms:created>
  <dc:creator>A Ashwin</dc:creator>
  <dc:description/>
  <dc:language>en-US</dc:language>
  <cp:lastModifiedBy>AES</cp:lastModifiedBy>
  <dcterms:modified xsi:type="dcterms:W3CDTF">2009-02-10T15:49:47Z</dcterms:modified>
  <cp:revision>15</cp:revision>
  <dc:subject/>
  <dc:title>###Business Communication - PowerPoint Presentation - Full version###</dc:title>
</cp:coreProperties>
</file>